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FDE-F5D5-41D0-B195-CE8659E2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DB2-BC52-4049-8108-CD93DC55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56C-D647-4A01-94EB-8BA176C9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BBA-96F2-4B8D-8A5A-287C1D5D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CE0-796E-40DF-AC51-58C2429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201-696E-42B6-B03F-57852E3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022-8391-4686-807F-934FF02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306-805A-4B70-8BAB-E32B84A0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E87-D654-446F-ADA8-9262137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B45-7A3C-4644-9AAA-043A9F1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1A6-2FD3-47CB-B28E-A634F222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C8D-ADA2-45F7-9698-DADBFC90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F905-9885-4C65-A969-16CAE645D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72200" y="50288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ыполнила студент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36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дан М.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838080"/>
            <a:ext cx="7620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сональный компьюте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2590920"/>
            <a:ext cx="78487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здоровье  детей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52280" y="152280"/>
          <a:ext cx="8002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00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344080" y="228600"/>
          <a:ext cx="7999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44080" y="228600"/>
                    <a:ext cx="799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28600" y="5638680"/>
          <a:ext cx="8002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638680"/>
                    <a:ext cx="800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952880" y="4419720"/>
          <a:ext cx="266724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19720"/>
                    <a:ext cx="2667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562720" y="4724280"/>
          <a:ext cx="373356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2720" y="4724280"/>
                    <a:ext cx="37335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590920" y="533520"/>
            <a:ext cx="388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чни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447920"/>
            <a:ext cx="73915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Белавина И.Г. // Информатика и образование.1991, №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Леонова Л.А., Бирюкович А.А., Савватеева С.С. Гигиеническое нормирование длительности развивающего занятия на компьютере типа для детей 6 лет.//Гигиена и санитария.1994,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 Леонова Л.А. Компьютер и здоровье ребенка. Вентенс – граф, 2004. – 16л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 Старшова Н.В. Здоровье и компьютер // Детский сад от А до Я, 2003. - №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 Леонова Л.А. Здоровье и компьютер // Информатика и образование, 1997.- №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лияет компьютер на здоровье ребенка дошкольного возраст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4419720"/>
          <a:ext cx="12384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12384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013360" y="3922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42670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о обоснованные физиолого – гигиенические требования к режиму занятий и длительности общения с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1600200"/>
            <a:ext cx="37339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делать компьютер помощником, а не вредителем для здоровья де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96080" y="4572000"/>
          <a:ext cx="1238400" cy="18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572000"/>
                    <a:ext cx="12384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05320" y="914400"/>
          <a:ext cx="251460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914400"/>
                    <a:ext cx="2514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Основные по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Основное содержание влияния персонального компьютера на здоровье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Ист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38280" y="457200"/>
            <a:ext cx="449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дачи 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52480" y="533520"/>
            <a:ext cx="601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новные понятия 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66680" y="1600200"/>
            <a:ext cx="21621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доровье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1905120"/>
            <a:ext cx="53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комплекс физического, психического, социального, биологического благополуч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09680" y="3124080"/>
            <a:ext cx="25243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омпьютер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05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орудие интеллектуальной деятельност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572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ьный учет их взаимодействия дает    положительный результат  в формировании интеллектуальных, творческих и технических умений ребенка – дошкольника, его здоровья и 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80400" y="1660320"/>
            <a:ext cx="6973920" cy="4090320"/>
            <a:chOff x="1580400" y="1660320"/>
            <a:chExt cx="6973920" cy="4090320"/>
          </a:xfrm>
        </p:grpSpPr>
        <p:sp>
          <p:nvSpPr>
            <p:cNvPr id="64" name="_s6166"/>
            <p:cNvSpPr/>
            <p:nvPr/>
          </p:nvSpPr>
          <p:spPr>
            <a:xfrm flipH="1" flipV="1">
              <a:off x="3342960" y="3522600"/>
              <a:ext cx="863280" cy="17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167"/>
            <p:cNvSpPr/>
            <p:nvPr/>
          </p:nvSpPr>
          <p:spPr>
            <a:xfrm>
              <a:off x="1580400" y="2801880"/>
              <a:ext cx="180900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ИЗИЧЕСКОЕ РАЗВИ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168"/>
            <p:cNvSpPr/>
            <p:nvPr/>
          </p:nvSpPr>
          <p:spPr>
            <a:xfrm flipH="1">
              <a:off x="4002840" y="4308480"/>
              <a:ext cx="533520" cy="44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169"/>
            <p:cNvSpPr/>
            <p:nvPr/>
          </p:nvSpPr>
          <p:spPr>
            <a:xfrm>
              <a:off x="2566800" y="464976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ОСТОЯНИЕ ЗДОРОВЬЯ РЕБЕН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172"/>
            <p:cNvSpPr/>
            <p:nvPr/>
          </p:nvSpPr>
          <p:spPr>
            <a:xfrm>
              <a:off x="5599440" y="4307760"/>
              <a:ext cx="533160" cy="44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173"/>
            <p:cNvSpPr/>
            <p:nvPr/>
          </p:nvSpPr>
          <p:spPr>
            <a:xfrm>
              <a:off x="5759640" y="464976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СТНО – МЫШЕЧНАЯ  СИИСТЕМ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6174"/>
            <p:cNvSpPr/>
            <p:nvPr/>
          </p:nvSpPr>
          <p:spPr>
            <a:xfrm flipV="1">
              <a:off x="5926680" y="3521880"/>
              <a:ext cx="863280" cy="17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6175"/>
            <p:cNvSpPr/>
            <p:nvPr/>
          </p:nvSpPr>
          <p:spPr>
            <a:xfrm>
              <a:off x="6745680" y="280188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СИХОНЕВРОЛОГИЧЕСКОЕ СОСТОЯ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6176"/>
            <p:cNvSpPr/>
            <p:nvPr/>
          </p:nvSpPr>
          <p:spPr>
            <a:xfrm flipV="1">
              <a:off x="5067360" y="2760480"/>
              <a:ext cx="0" cy="55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177"/>
            <p:cNvSpPr/>
            <p:nvPr/>
          </p:nvSpPr>
          <p:spPr>
            <a:xfrm>
              <a:off x="4163400" y="166032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ОСТОЯНИЕ  ЛОР -     ОРГАН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78"/>
            <p:cNvSpPr/>
            <p:nvPr/>
          </p:nvSpPr>
          <p:spPr>
            <a:xfrm>
              <a:off x="4163400" y="331308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469800" y="4660920"/>
          <a:ext cx="38916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660920"/>
                    <a:ext cx="38916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 txBox="1"/>
          <p:nvPr/>
        </p:nvSpPr>
        <p:spPr>
          <a:xfrm>
            <a:off x="1752480" y="1522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хема  влияний  компьюте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09680" y="762120"/>
            <a:ext cx="4753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 здоровье  ребен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86200" y="358128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980720" y="1219320"/>
            <a:ext cx="67820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ие годы персональные ЭВМ все шире внедряются в учебно – воспитательный процесс детских дошкольных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е педагогическое средство позволяет более эффективно решать поставленные задачи интеллектуального развития ребенка. Однако необходимо помнить о том, что разработка любой инновационной модели должна сопровождаться изучением влияния таких занятий на организм ребенка, на его здоровье (зрение, ос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самочув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5400000">
            <a:off x="-2057760" y="2895840"/>
            <a:ext cx="61722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лияние 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477120" y="4495680"/>
          <a:ext cx="22096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495680"/>
                    <a:ext cx="22096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4117680" cy="3468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533520" y="121896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22860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агоприятные  условия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914400"/>
            <a:ext cx="7848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ходимо чтобы занятия проходили в благоприятных условиях внешней среды компьютерного зала и были организованы с учетом научно – обоснованных физиолого-гигиенических требований к режиму занятий и длительности общения с ПК, а также психолог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дагогических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компьютер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грам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4118040" cy="3468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457200"/>
            <a:ext cx="792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денные исследования показали, что работа на ПК не влияет на осанку детей в том случае, если занятия проходят в условиях  жесткой регламентации длительности работы и при соблюдении всех гигиенических и эргономических требований к устройству компьютерного зала (его оборудованию и содержанию), при соблюдении эргономических требований к рабочему месту и рабочей позе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286000"/>
            <a:ext cx="487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вной причиной ухудшения осанки дошкольников является нарушение гигиенических требований к организации  учебно-воспитательной работы в детском саду и игнорирование рекомендаций по                           проведению физкультурно-оздоровитель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426708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ую роль играет рациональная организация всего учебно-воспитательного процесса в детском саду, в том числе физкультурно- оздоровительной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118040" cy="3468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15238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380880"/>
            <a:ext cx="312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676520"/>
            <a:ext cx="426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на ПК детей 5-6 лет в режиме 15 минут в день 1-2 раза в неделю в ходе 30-минутных развивающих занятий и при соблюдении требований к устройству, оборудованию, условиям среды компьютерного зала и к компьютерным программам не оказывают отрицательного влияния на состояние здоровья до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09-05-20T06:42:1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